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7680-3B25-4C7A-8D75-6F4574EDD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7F28-6DCF-4986-AC53-3416B9016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AB11-9A93-4D22-941E-091D0D1E1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A495-260E-4830-B61E-DB6CDDA6C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2CBE-95CE-4D2A-9FB3-BBBD654302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ED95-4DDE-4F39-BC8E-F48CE31AEC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0F49-19DE-45D3-9F09-26D76F368D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511D-8EE6-4E91-B9D1-FA12EB6973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F33A-EBC9-49C1-92F9-8B3B4870BD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B625-AA72-4BA1-8EFA-AE7E4CEED4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9E59-78B8-4C12-A26C-56871966E5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33DA-AFBD-493B-BA6D-91B50CB5E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6322-BFCF-48EA-AF6F-97CEBF2C81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7F52-3044-4E57-A5F9-729B90B13B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539C-5AD1-4EFD-BDAB-3BE6848445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8C67-F275-4222-9F08-B8B025CA2C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5CD9-7455-4423-AD71-74171AC91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57C7-034A-4F62-9DB6-EA1C93026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AA87-3875-4B43-AB13-8601C96BD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BF0E-2520-498F-B309-31C962D5D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144B-E7AE-4638-8578-134BFA83A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6627-3D5D-4173-9B40-A608A52D8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0462-1F2B-4BC6-A81D-BF3E3C411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3CB7-3A25-4868-BEE0-D5359B74D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"/>
          <p:cNvSpPr/>
          <p:nvPr/>
        </p:nvSpPr>
        <p:spPr>
          <a:xfrm>
            <a:off x="8350200" y="6553080"/>
            <a:ext cx="79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48FE-B0B9-4A1D-AAA8-AF085F7C7355}" type="slidenum">
              <a:rPr b="0" lang="ja-JP" sz="1600" spc="-1" strike="noStrike">
                <a:solidFill>
                  <a:srgbClr val="3333cc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huma.org/pepperpad/" TargetMode="External"/><Relationship Id="rId2" Type="http://schemas.openxmlformats.org/officeDocument/2006/relationships/hyperlink" Target="http://www.chuma.org/pepperpad/" TargetMode="External"/><Relationship Id="rId3" Type="http://schemas.openxmlformats.org/officeDocument/2006/relationships/hyperlink" Target="http://www.chuma.org/pepperpad/" TargetMode="External"/><Relationship Id="rId4" Type="http://schemas.openxmlformats.org/officeDocument/2006/relationships/hyperlink" Target="http://www.pepper.com/forums/index.php" TargetMode="External"/><Relationship Id="rId5" Type="http://schemas.openxmlformats.org/officeDocument/2006/relationships/hyperlink" Target="http://www.pepper.com/forums/index.php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epperhacks.com/" TargetMode="External"/><Relationship Id="rId2" Type="http://schemas.openxmlformats.org/officeDocument/2006/relationships/hyperlink" Target="http://www.pepperhacks.com/" TargetMode="External"/><Relationship Id="rId3" Type="http://schemas.openxmlformats.org/officeDocument/2006/relationships/hyperlink" Target="http://www.pepperhacks.com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epper.com/" TargetMode="External"/><Relationship Id="rId2" Type="http://schemas.openxmlformats.org/officeDocument/2006/relationships/hyperlink" Target="mailto:jon.melamut@pepper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5760" y="5672160"/>
            <a:ext cx="1363680" cy="662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638520"/>
            <a:ext cx="8686800" cy="0"/>
          </a:xfrm>
          <a:prstGeom prst="line">
            <a:avLst/>
          </a:prstGeom>
          <a:ln w="57240">
            <a:solidFill>
              <a:srgbClr val="588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657600"/>
            <a:ext cx="3154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, 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5440" y="6037920"/>
            <a:ext cx="197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kyo Jamboree #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6640" y="3111480"/>
            <a:ext cx="5487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evelopment on the Pepper 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0400" y="4216320"/>
            <a:ext cx="3109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dr</a:t>
            </a:r>
            <a:r>
              <a:rPr b="1" lang="ja-JP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é Krützfel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33F3-35FD-498E-B7E0-46102FDE02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 the configur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t the appropriate config path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PKG_CONFIG_PATH=/opt/fdo/lib/pkgconfig:/opt/gtk/lib/pkgconfig:…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dditionally you can also copy the folders from the pa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888E-E198-4DB1-930F-1C2B241B99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X11 &amp; GT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pepperpad has both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ut the location is differen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opt/fdo - X11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opt/gtk - gtk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ome additional RPMs are in /opt/pu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stall also the </a:t>
            </a:r>
            <a:r>
              <a:rPr b="0" lang="en-US" sz="2600" spc="-1" strike="noStrike">
                <a:solidFill>
                  <a:srgbClr val="ff0000"/>
                </a:solidFill>
                <a:latin typeface="ＭＳ Ｐゴシック"/>
              </a:rPr>
              <a:t>xorg-devel-7.0-6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 package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configure a program us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/configure --with-x-includes=/opt/fdo/include \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-with-x-libraries=/opt/fdo/lib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CE18-E5E2-4A1A-9818-C86BFBB78C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epperpad &amp; samb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amba is pre installe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Just add yourself as a user and start the serv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etc/init.d/samba star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n the Mac desktop enter &lt;apple&gt;-k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 the dialog box enter smb://&lt;ip-number&gt;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Mac will open a finder window of your pepperpa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13C7-47FD-419F-9D5C-E252C37FFFE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me useful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39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chuma.org/pepperpad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ook at the pre-build RPM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 file manag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VNC view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4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5"/>
              </a:rPr>
              <a:t>www.pepper.com/forums/index.ph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ots of information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C8AD-A10E-4236-A806-F63B836B3F4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me useful sites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pepperhacks.com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PDF read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4982-A3DF-47F9-9FC2-51024B7EDD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take I di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96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Don’t get an SD card &gt; 1G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 is not supported yet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07BC-6436-4A44-B2D2-E8D5F400592B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epper P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36840" y="1774800"/>
            <a:ext cx="6070320" cy="330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58112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8677-2FC6-4C6E-8B96-FD87371C38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makes it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company can be found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www.pepper.com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CELF contact i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n Melamu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, Sales &amp; Business Developmen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pper Computer, Inc.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ne: +1.781.862.2500 x 209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: +1.978.430.8359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on.melamut@pepper.com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0418-66A5-4804-8307-851751C8FD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does it contai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9720" y="1222200"/>
            <a:ext cx="838224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ux Kernel 2.6.13 (preemptive), UBOOT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 &amp; Au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K+, Xorg R7, Freetype, Cairo, Alsa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Syste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T3 (journaling), EXT2, FAT, VFAT/FAT32,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FS, HFS+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able Med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 (HID, mass storage, audio, network)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/MMC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chscreen, keypads, scrollwheel, mouse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P/IP, DHCP, WiFi WEP, WPA supplicant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luez (HID, OBEX, SPP, HSP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frame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pper Keeper 2.1, Java 2, XML-based application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kages, automatic package download and install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gitally signed, multiple security level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le-optimized Mozilla Firefox 1.5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1.6, XML, XSL, CS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3, WMA*, Real*, AAC*, HTTP/RTSP/MM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eaming, PLS/AU playlists, Helix framework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6C97-5BDA-4F5A-80C7-B3359FEE4B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does it contain?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8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G-4, AVI, WMV*, Real*, HTTP/RTSP/MM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aming, MPlayer and Helix framework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P, RTP, RTCP, G.711 VAD/CNG, G.729A/B, G.723.1,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.726, echo cancellation, STUN, NAT traversal, DTMF,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ive jitter buffe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G, GIF, PNG, TIFF, Yahoo! Flickr sha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romedia Flash 7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M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DRM10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/V contro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 learn and transmit, UPnP Media Controller and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nderer*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3 and IMAP4, AOL Inbox, Web mai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L IM, Y!*, SI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boo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ipocke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FDCA-E9EB-450E-B1F0-7E7563E9E0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does it contain? (3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nd most importan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 full development toolset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 can be found und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opt/montavista/pro/devkit/arm/xscale_le/packages/pro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re are all sorts of packages, which ones do you need?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F037-4305-4CEA-9AE2-9193F7AA1F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things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6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get an xterm on the pad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Press &lt;crtl&gt; &lt;shift&gt; 1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start the ssh serv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ype service ssh star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ow you can connect from your Mac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save some memory you can disable the pepper deskto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rvice pepper sto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Don’t forget to start it again :-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1BB-AD6C-4DED-AB74-B34261DD5F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 C develop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cc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cc-doc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libc-dev-2.3.2-25.0.27.0500612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libc-doc-2.3.2-25.0.27.0500612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stall with ‘</a:t>
            </a:r>
            <a:r>
              <a:rPr b="0" lang="en-US" sz="2600" spc="-1" strike="noStrike">
                <a:solidFill>
                  <a:srgbClr val="000000"/>
                </a:solidFill>
                <a:latin typeface="Monaco"/>
              </a:rPr>
              <a:t>rpm -Uvh filename.mvl’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A447-98A3-422A-9F06-FC5615189A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 C++ develop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++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ibstdc++5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ibstdc++5-dev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stall with ‘</a:t>
            </a:r>
            <a:r>
              <a:rPr b="0" lang="en-US" sz="2600" spc="-1" strike="noStrike">
                <a:solidFill>
                  <a:srgbClr val="000000"/>
                </a:solidFill>
                <a:latin typeface="Monaco"/>
              </a:rPr>
              <a:t>rpm -Uvh filename.mvl’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3F41-8919-4363-BD6F-BA75EAF4C2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7:45:29Z</dcterms:created>
  <dc:creator>Aplix Corporation</dc:creator>
  <dc:description>
</dc:description>
  <dc:language>en-US</dc:language>
  <cp:lastModifiedBy>Satoru Ueda</cp:lastModifiedBy>
  <cp:lastPrinted>2003-07-31T14:03:35Z</cp:lastPrinted>
  <dcterms:modified xsi:type="dcterms:W3CDTF">2006-05-29T00:55:37Z</dcterms:modified>
  <cp:revision>2390</cp:revision>
  <dc:subject/>
  <dc:title>平成17年12月期第1四半期決算説明会</dc:title>
</cp:coreProperties>
</file>